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6E1C-199C-488C-B656-C20211ECEC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410-D8E5-4DCA-BAAD-AD7F9144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8CC-53D4-4BF4-A21C-48F7ECCF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B62-4AF3-4736-9F5F-75183AF9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398-F7C9-4837-BA34-37420825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CB1-F22E-49B1-9C37-56FD3237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FA5-C132-46A4-B368-69419B11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A47-B457-4CAC-B980-9A0176D2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E21-8FBF-4EC1-B8EC-C24A34D1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6D1-62F6-4550-A2F0-3367E381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5EA-8E48-4ADE-AB8E-78D945A8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FD2-DFCA-4C8E-873C-9433912F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FC4-6442-4BF8-9499-2EA8DEFC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5965-4C7D-46EC-8566-CD17CF4780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362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DNOCENÍ PROJE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. Kamila Matuš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pad/prosinec 20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006-519F-4B2F-AA05-FF91916D1E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žadatel splňuje definici pro Konečného uživate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žadatel má sídlo na území Č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rávnické osoby) nebo je občanem ČR s trvalým pobytem na území České republiky (fyzické osob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partner je právnická nebo fyzická osoba se sídlem v Č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360-3D57-4BA2-B582-34CBC56AA8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projekt bude mít dopad na cílové skupiny na území ČR, resp. na území příslušného regionu, pro který je regionální grantové schéma vyhlášené,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mimo území hlavního města Prah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podporované aktivity a cílové skupiny projektu jsou v souladu s danou výzvou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NOV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doba trvání projektu není delší než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24 měsíc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finanční podpora z OP RLZ požadovaná pro realizaci projektu není nižší než min. a vyšší než max.stanovené vyhlašovatele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0A1-DEDB-488B-9FBF-664CAD7013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204640"/>
            <a:ext cx="8915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) finanční podpora z OP RLZ není plánována pro jiné než uznatelné náklady ve stanovené struktuř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) v rozpočtu jsou uvedeny vlastní zdroje žadatele -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u Pp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) požadovaná veřejná podpora není vyšší než veřejná podpora povolena ÚO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227-7D5F-4814-B02C-E5685105FD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érium                                                                 Ano     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oba trvání projektu není delší než 24 měsíc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splnění některého z kritéri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žádost vyřaz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24382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37339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E86-DC66-4D89-B92E-C417ED8725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ěcné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hodnocení založen na soubor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šesti kritéri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) zdůvodnění projektu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) cílová skupina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) realizace projektu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) výsledky a výstupy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5) horizontální témata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6) specifické požadavky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5943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6DA-7B25-48E3-AA6C-5E846EBC77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105264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1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důvodněn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153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 zdůvodnění zámě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vazba na strategické dokumen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přínos pro cílovou skupi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6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2A3-4D93-4454-AE18-94E75566A5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1052640"/>
            <a:ext cx="66438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.2 vazba na strategické dokumenty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12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lad s vládní, státní nebo národní strategií, politikou a progra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ylučující kritérium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kt musí získat alespoň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0 bod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3D0-9806-4A6D-B886-16893FD289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2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ílová skup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072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přiměřenost cílových sku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zapojení cílových sku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F25-F6A7-4776-91BA-4295F419F6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3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1 klíčové aktivity a stádia realiza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5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2 monitorování projek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3 předchozí zkušenosti žadatele s řízení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dobných projekt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4 publici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5 udržitelnost projek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580-1507-4E78-B580-687B27CA0E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4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ýsledky a 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1 kvantifikace výsledků a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2 zajištění výsledků a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4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F09-A69F-4A0A-82D4-D7162A8CE2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9144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Administrace Opatření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va k předkládá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íjem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dnoce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běr projektů k realiz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zhodnutí o poskytnutí d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077-87F2-4D32-9D6D-17EEAED763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5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072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 rovné příležit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udržitelný rozv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 informační společ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místní iniciati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D8E-7B62-41C2-BA3C-E21E50AF0A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8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5.1 rovné příležitosti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4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220932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pad projektu na muže a ženy, etnické menšiny, osoby se zdravotním postižením, případně další skupiny ohrožené vyloučení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ÝMI aktivitami projekt podpoří a ovlivní rozvoj rovných příležitost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ovnost žen a mužů není „záležitostí ž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 projekt propaguje rovné příležit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3C5-2B33-418C-8AD5-9DEFC855B6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6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pecifické požada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072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 partnerstv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 přiměřenost výše požadovaných finančních prostředků k cílům a obsahu projek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5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D8F-49B4-45A8-864F-4407D99B22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8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6.1 partnerství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10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4247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pojení partnerů, kteří se zabývají problematikou řešenou v projektu a jejichž účast na projektu je významná z hlediska regionální, meziregionální, popř. celostátní spolupráce nebo z hlediska institucí různého typ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tnerství různých institu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artnerů přesně vymezen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-10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nejsou přesně vymezen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tatní zdůvodněné příp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ní možné nebo účelné vytvářet pro realizaci daného projektu partnerství různých institucí, ale je odůvodněno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č nedošlo k vytvoření zmíněného partnerství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5E5-70A7-463A-B114-015E671A27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ěcné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362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teré projekty postupují do výbě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. 65 bod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 subkritériu vazba na strategiské dokumen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. 10 bo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 podle názorů hodnotitelů nemá negativní vl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některé z horizontálních té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5C6-B78D-42B1-8DC9-FAEA0C7C50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ýběr projektů k 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ádí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běrová kom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která při svém rozhodování vychází z výsledků věcného hodnoc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K má pravomoc krátit rozpoče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K rozhoduje o výběru projektů do výše přidělených fin. prostředků na dané kolo výz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85D-4D19-45D5-AA3A-CD9E8EF643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Rozhodnutí o poskytnutí d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686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veřejnění seznamu výsledků ze zasedání VK n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ísemné vyrozumění žad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spěšní žadatelé vyzváni k dodání podkladů k rozhodnutí (např. smlouvy s partn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dáno rozhodnutí o poskytnutí dot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F9D-7428-4BED-9C6F-999765A79B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sfprovs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DB8-BACC-4ABF-9740-686614D4DC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Časový rá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286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532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732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892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684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3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ýz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561040"/>
            <a:ext cx="1905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úno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 12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414960"/>
            <a:ext cx="167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ijatel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434320"/>
            <a:ext cx="1486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eklá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žádos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205720"/>
            <a:ext cx="1298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ěc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6920" y="3494520"/>
            <a:ext cx="1329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vá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k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ýběrov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mi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E20-1405-4D9D-BB45-791289E318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fáze: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dnocení formálních náležit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fáz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dnocení přijatel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fáz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ěcné hodnocení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288-30C0-42DE-A6B8-64C33DE4FE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žádost byla dodána v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ktron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době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žádost byla dodána v tištěné podobě 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řech vyhotovení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 originál/úředně ověřená kopie a 2x kopie nebo 3x originá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verze elektronické a tištěné žádosti jsou (dle kontrolního znaku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hodn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v žádosti jsou vyplněn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šechny předepsané úda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všechny povinné přílohy jsou dodány 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řech vyhotovení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 originál/úředně ověřená kopie a 2 kopi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počet stránek jednotlivých příloh odpovídá počtu stran uvedenému na Seznamu přílo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22E-091D-4D91-A820-40B6377A47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73360"/>
            <a:ext cx="89154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jsou dodány všechny požadované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klady o právní subjektivit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žadate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bezdlužnost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partnerstv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za každého partnera, pokud je v projektu zapoje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velikosti podnik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kud je žadatel MS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) je dodá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řehled ekonomické a finanční situ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kud je žadatelem podnikatelský subjek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) jsou dodány všechny specifické přílo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) nechybí žádný z požadovanýc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dpis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rávněných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545-C53E-4012-8A98-67CA107921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7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žadované doklady o právní subjektivi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z. Průvodce pro žadate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ozornění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 případě, kdy je doložena výpi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obchodního rejstří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lad nesmí být starší více než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ři měsí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odání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29264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90B-C9F9-485F-BE3A-96345696F2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13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dpis oprávně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tární zást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42F-F18D-49F1-A254-7693DA35F2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érium                                                             Ano      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žádost byla dodána v elektronické podob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plnění některého z kritéri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hověla žádost kritériím přijatelno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                                           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va k doplnění                            vyř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100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33577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979640" y="4292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4292640"/>
            <a:ext cx="28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C63-8492-4923-AAE7-74F9DEBF67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Kamila Matušů</dc:creator>
  <dc:description/>
  <dc:language>en-US</dc:language>
  <cp:lastModifiedBy>prejzovaa</cp:lastModifiedBy>
  <dcterms:modified xsi:type="dcterms:W3CDTF">2005-12-19T13:46:40Z</dcterms:modified>
  <cp:revision>33</cp:revision>
  <dc:subject/>
  <dc:title>Hodnoce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5367238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PreviousAdHocReviewCycleID">
    <vt:r8>1519083974</vt:r8>
  </property>
  <property fmtid="{D5CDD505-2E9C-101B-9397-08002B2CF9AE}" pid="7" name="_ReviewingToolsShownOnce">
    <vt:lpwstr/>
  </property>
</Properties>
</file>